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E12-9178-4F34-B9DD-E73C5F12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F73-5300-4F8F-B1ED-C7934249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32B-FC55-44C7-A3E8-29F06368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34E-B0A9-42BD-8587-8A649E8B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CC5-26A0-4495-B899-4318AC53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821-C6DA-4D4D-BD22-FC943DCB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A8D-8FD1-4C67-A150-8B9CF609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6A1-BD82-4DB5-A931-12D58B25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F90-FCDC-4BE3-BF7A-2BBEBB5C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70D-F4F8-4194-A6FE-83AA9FA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7F4-247A-481D-8185-C695EBDB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1D1-C369-4786-B3EB-5E94D92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FF59-CEB1-4D3D-8D5C-954FCB1AE56C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Calibri"/>
              </a:rPr>
              <a:t>Coastal Transportation And Deposi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ngshore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terial is moved along the coastline by the wav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aves will often approach the coast at an angle, carrying material with them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is carried up on to the beach by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wash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material is then dragged out to sea by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backwash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but this time it travels at right angles to the beach, as it will roll down the steepest gradien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movement will slowly transport material laterally along the coas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ngshore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upload.wikimedia.org/wikipedia/commons/thumb/f/fb/Longshore_drift.svg/800px-Longshore_drift.svg.png"/>
          <p:cNvPicPr/>
          <p:nvPr/>
        </p:nvPicPr>
        <p:blipFill>
          <a:blip r:embed="rId1"/>
          <a:stretch/>
        </p:blipFill>
        <p:spPr>
          <a:xfrm>
            <a:off x="155520" y="2133720"/>
            <a:ext cx="88981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shore drift is the overall process of transportation, however the material actually moves through the four transportation processes seen in riv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se depend on the size of sedi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) Traction - the rolling of large material along the sea floor by the w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) Saltation - the bouncing of slightly lighter material along the sea flo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) Suspension - Small particles of material carried by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) Solution - Material is dissolved and carried by th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astal De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cess associated with constructive w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is dropped by waves once they lose energy, either by rolling up a beach or where a river estuary causes a disruption to the normal movement of material along the co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features such as beaches, spits, bars and tombol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43:49Z</dcterms:created>
  <dc:creator>Dell_02</dc:creator>
  <dc:description/>
  <dc:language>en-US</dc:language>
  <cp:lastModifiedBy>Dell_02</cp:lastModifiedBy>
  <dcterms:modified xsi:type="dcterms:W3CDTF">2011-01-26T23:50:24Z</dcterms:modified>
  <cp:revision>1</cp:revision>
  <dc:subject/>
  <dc:title>Coastal Transportation And Deposition</dc:title>
</cp:coreProperties>
</file>